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9A3-7528-4DBD-936C-9332BBC0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965-6917-42C5-B3C3-A0313B8D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8E6-90CB-4EF4-A2B9-AE7DDBF4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54F-03E2-4926-92E5-EB53974E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AD3-00C3-4C9D-925D-03FEBAB4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008-C014-4765-98A5-F8711736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21D-5A88-48EB-9507-80956A1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9AD-8328-4FB7-BAAD-D2E1AE9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29C-67DD-44CE-AC56-1614ED2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BDC-6591-4A15-802A-37244CD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63C-E1E5-4B7A-A5DD-490B8BD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F1B-1C45-42D9-8E84-1CD0CA72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642E-ADB3-49D1-B00D-723B526D0A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ID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772400" cy="232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80560" y="29718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63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8680" y="299556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9144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86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58128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693432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3733920"/>
            <a:ext cx="698688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* = size of source population in stead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= time length of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867640" cy="20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772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41911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772400" cy="241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4:03Z</dcterms:modified>
  <cp:revision>218</cp:revision>
  <dc:subject/>
  <dc:title>Slide 1</dc:title>
</cp:coreProperties>
</file>